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269720" y="1181160"/>
            <a:ext cx="1046484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269720" y="5805360"/>
            <a:ext cx="1046484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31920" y="248868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697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31920" y="5805360"/>
            <a:ext cx="5106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0816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46600" y="248868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26972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80816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346600" y="5805360"/>
            <a:ext cx="33696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Aft>
                <a:spcPts val="35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28600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341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181480"/>
            <a:ext cx="10464840" cy="1625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36000"/>
          </a:bodyPr>
          <a:p>
            <a:pPr marL="13248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1" marL="132480" indent="-12312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2" marL="132480" indent="-12312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3" marL="132480" indent="-12312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4" marL="132480" indent="-12312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5" marL="132480" indent="-12312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6" marL="132480" indent="-12312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4191120" y="4800600"/>
            <a:ext cx="463536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 fontScale="74000"/>
          </a:bodyPr>
          <a:p>
            <a:pPr marL="52632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1" marL="93024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2" marL="133812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3" marL="1763280" indent="-31932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4" marL="218376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5" marL="218376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6" marL="218376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341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81960" y="2488680"/>
            <a:ext cx="415296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 fontScale="66000"/>
          </a:bodyPr>
          <a:p>
            <a:pPr marL="469440" indent="-28512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1" marL="829800" indent="-28512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2" marL="1193400" indent="-28512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3" marL="1572480" indent="-28476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4" marL="1947600" indent="-28512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5" marL="1947600" indent="-28512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6" marL="1947600" indent="-28512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341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 fontScale="96000"/>
          </a:bodyPr>
          <a:p>
            <a:pPr marL="682560" indent="-414720">
              <a:spcAft>
                <a:spcPts val="35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1" marL="1207080" indent="-414720">
              <a:spcAft>
                <a:spcPts val="35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2" marL="1735920" indent="-414720">
              <a:spcAft>
                <a:spcPts val="35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3" marL="2287440" indent="-414360">
              <a:spcAft>
                <a:spcPts val="35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4" marL="2833200" indent="-414720">
              <a:spcAft>
                <a:spcPts val="35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5" marL="2833200" indent="-414720">
              <a:spcAft>
                <a:spcPts val="35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6" marL="2833200" indent="-414720">
              <a:spcAft>
                <a:spcPts val="35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Click to edit the title text format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41200" y="228600"/>
            <a:ext cx="2489400" cy="81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269720" y="914040"/>
            <a:ext cx="10464840" cy="7924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 fontScale="90000"/>
          </a:bodyPr>
          <a:p>
            <a:pPr marL="640080" indent="-388800">
              <a:spcAft>
                <a:spcPts val="60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1" marL="1131480" indent="-388800">
              <a:spcAft>
                <a:spcPts val="60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2" marL="1627200" indent="-388800">
              <a:spcAft>
                <a:spcPts val="60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3" marL="2144520" indent="-388440">
              <a:spcAft>
                <a:spcPts val="60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4" marL="2656080" indent="-388800">
              <a:spcAft>
                <a:spcPts val="60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5" marL="2656080" indent="-388800">
              <a:spcAft>
                <a:spcPts val="60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6" marL="2656080" indent="-388800">
              <a:spcAft>
                <a:spcPts val="60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341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368316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341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796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1" marL="1015920" indent="0" algn="ctr"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2" marL="1523880" indent="-48240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3" marL="2031840" indent="-48240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4" marL="2540160" indent="-48276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5" marL="2540160" indent="-482760">
              <a:spcBef>
                <a:spcPts val="950"/>
              </a:spcBef>
              <a:buClr>
                <a:srgbClr val="43412c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6" marL="2540160" indent="-482760">
              <a:spcBef>
                <a:spcPts val="950"/>
              </a:spcBef>
              <a:buClr>
                <a:srgbClr val="43412c"/>
              </a:buClr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6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72640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341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6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2080" y="1625760"/>
            <a:ext cx="5879880" cy="3047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341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22080" y="5181120"/>
            <a:ext cx="5879880" cy="3048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9000"/>
          </a:bodyPr>
          <a:p>
            <a:pPr marL="25380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Click to edit the outline text format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1" marL="253800" indent="-23616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econd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2" marL="253800" indent="-23616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Third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3" marL="253800" indent="-23616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Four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4" marL="253800" indent="-23616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Fif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5" marL="253800" indent="-23616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ix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  <a:p>
            <a:pPr lvl="6" marL="253800" indent="-236160" algn="ctr">
              <a:spcAft>
                <a:spcPts val="201"/>
              </a:spcAft>
              <a:buClr>
                <a:srgbClr val="43412c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eventh Outline Leve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1244520" y="4800600"/>
            <a:ext cx="4635720" cy="12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6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270080" y="2488680"/>
            <a:ext cx="491472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 fontScale="74000"/>
          </a:bodyPr>
          <a:p>
            <a:pPr marL="52632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1" marL="93024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2" marL="133812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3" marL="1763280" indent="-31932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4" marL="218376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5" marL="218376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lvl="6" marL="2183760" indent="-319680">
              <a:spcAft>
                <a:spcPts val="4399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269720" y="393480"/>
            <a:ext cx="10464840" cy="1981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3412c"/>
                </a:solidFill>
                <a:latin typeface="Hoefler Text"/>
              </a:rPr>
              <a:t>Click to edit the title text format</a:t>
            </a:r>
            <a:endParaRPr b="0" lang="en-US" sz="64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40160"/>
            <a:ext cx="1046484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00000"/>
                </a:solidFill>
                <a:latin typeface="Hoefler Text"/>
              </a:rPr>
              <a:t>Information Resources</a:t>
            </a:r>
            <a:br>
              <a:rPr sz="6400"/>
            </a:br>
            <a:r>
              <a:rPr b="0" lang="en-US" sz="6400" spc="-1" strike="noStrike">
                <a:solidFill>
                  <a:srgbClr val="800000"/>
                </a:solidFill>
                <a:latin typeface="Hoefler Text"/>
              </a:rPr>
              <a:t>and Technology</a:t>
            </a:r>
            <a:endParaRPr b="0" lang="en-US" sz="6400" spc="-1" strike="noStrike">
              <a:solidFill>
                <a:srgbClr val="43412c"/>
              </a:solidFill>
              <a:latin typeface="Hoefler Text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4013280" y="139680"/>
            <a:ext cx="4978440" cy="1612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568520" y="6591240"/>
            <a:ext cx="9861480" cy="2288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e facilitate excellence in education, biomedical and clinical research, and patient care through the application of innovative and effective information resources and technolog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22" name=""/>
          <p:cNvSpPr/>
          <p:nvPr/>
        </p:nvSpPr>
        <p:spPr>
          <a:xfrm>
            <a:off x="3753720" y="5041800"/>
            <a:ext cx="5473440" cy="1191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412c"/>
                </a:solidFill>
                <a:latin typeface="Hoefler Text"/>
              </a:rPr>
              <a:t>Henry Lowe M.D.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412c"/>
                </a:solidFill>
                <a:latin typeface="Hoefler Text"/>
              </a:rPr>
              <a:t>Senior Associate Dean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412c"/>
                </a:solidFill>
                <a:latin typeface="Hoefler Text"/>
              </a:rPr>
              <a:t>Information Resources and Technology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1269720" y="2488680"/>
            <a:ext cx="1046484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 fontScale="95000"/>
          </a:bodyPr>
          <a:p>
            <a:pPr marL="675720" indent="-41040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Ubiquitous access to information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75720" indent="-41040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Data privacy and securit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75720" indent="-41040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Library as a Knowledge Management Center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75720" indent="-41040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Internet as a communications medium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75720" indent="-41040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RT as an innovative force in education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75720" indent="-41040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ranslational Informatics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75720" indent="-41040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Enabling the translational research mission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Major Strategic Themes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269720" y="2488680"/>
            <a:ext cx="10528200" cy="6540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661320" indent="-40176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future of computing rests on a wireless “always on” network connection.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1320" indent="-40176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Wireless networking is progressing rapidl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1320" indent="-40176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Mobile computing devices are becoming smaller, cheaper, more powerful and better integrated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1320" indent="-40176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Biomedical workers are often nomadic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1320" indent="-40176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Major transforming potential in the clinical, research and educational environments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Ubiquitous Access to Information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1130040" y="2387520"/>
            <a:ext cx="10731240" cy="7112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668520" indent="-40608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mplementing an enterprise-wide wireless network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8520" indent="-40608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Convened a joint School-University-Hospital secure wireless planning committee.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8520" indent="-40608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Appointed an Associate Director of Wireless Applications Development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8520" indent="-40608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Mandated secure wireless network standards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8520" indent="-40608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Positioning all key information resources to be wireless-accessible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What IRT is Doing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1270080" y="2488680"/>
            <a:ext cx="10477440" cy="5232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711360" indent="-43200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New Federal and State regulations mandate significant changes in how we handle information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Our ability and willingness to protect privacy and secure information will become critical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Our clinical and translational research missions are at particular risk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412c"/>
                </a:solidFill>
                <a:latin typeface="Hoefler Text"/>
              </a:rPr>
              <a:t>An issue in negotiating access to clinical data</a:t>
            </a:r>
            <a:endParaRPr b="0" lang="en-US" sz="32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Information Privacy and Security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1269720" y="2437920"/>
            <a:ext cx="10464840" cy="7239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711360" indent="-43200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Created a process within the School to manage HIPAA implementation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Convened a joint School-University-Hospital committee to define data security standards for the Biomedical Communit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A secure data center for the School will open in April 2003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4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Appointed a Director for Data Privacy and Securit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What IRT is Doing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269720" y="2222640"/>
            <a:ext cx="10464840" cy="7200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689760" indent="-419040">
              <a:spcAft>
                <a:spcPts val="28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Biomedicine is knowledge-based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spcAft>
                <a:spcPts val="28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Ubiquitous electronic access to knowledge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spcAft>
                <a:spcPts val="28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Library as our Center for Knowledge Management - a “library without walls”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spcAft>
                <a:spcPts val="28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A new Library Director who is also Associate Dean for Knowledge Management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spcAft>
                <a:spcPts val="28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Knowledge-based clinical decision support as part of EMR deployment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spcAft>
                <a:spcPts val="280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Addition of new knowledge resources (e.g. Genomic Resources)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Knowledge Management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596880" y="2387520"/>
            <a:ext cx="11810880" cy="7213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689760" indent="-41904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Web is our major point of contact with the World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nternet strategy should support our strategic plan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RT Web design task force report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School needs a new Web site with: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1" marL="1219680" indent="-41904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Better navigational model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219680" indent="-41904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More consistent “branding” across the School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219680" indent="-41904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Tighter coordination with Hospital Web sites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219680" indent="-419040">
              <a:lnSpc>
                <a:spcPct val="15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Separation of public and private Web services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Internet Strategy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pull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003320" y="2615760"/>
            <a:ext cx="10794960" cy="6908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647280" indent="-393120">
              <a:lnSpc>
                <a:spcPts val="3175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An IT-enabled educational environment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47280" indent="0">
              <a:lnSpc>
                <a:spcPts val="3175"/>
              </a:lnSpc>
              <a:spcAft>
                <a:spcPts val="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1" marL="1144080" indent="-393120">
              <a:lnSpc>
                <a:spcPts val="2273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Easy, ubiquitous technology support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44080" indent="0">
              <a:lnSpc>
                <a:spcPts val="2273"/>
              </a:lnSpc>
              <a:spcAft>
                <a:spcPts val="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44080" indent="-393120">
              <a:lnSpc>
                <a:spcPts val="2273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Investment in simulation technologies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44080" indent="0">
              <a:lnSpc>
                <a:spcPts val="2273"/>
              </a:lnSpc>
              <a:spcAft>
                <a:spcPts val="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647280" indent="-393120">
              <a:lnSpc>
                <a:spcPts val="3175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Balance innovation and current successful practice 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47280" indent="0">
              <a:lnSpc>
                <a:spcPts val="3175"/>
              </a:lnSpc>
              <a:spcAft>
                <a:spcPts val="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1" marL="1144080" indent="-393120">
              <a:lnSpc>
                <a:spcPts val="2273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Continuous evaluation and improvement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44080" indent="0">
              <a:lnSpc>
                <a:spcPts val="2273"/>
              </a:lnSpc>
              <a:spcAft>
                <a:spcPts val="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44080" indent="-393120">
              <a:lnSpc>
                <a:spcPts val="2273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Training educators to use IT successfully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44080" indent="0">
              <a:lnSpc>
                <a:spcPts val="2273"/>
              </a:lnSpc>
              <a:spcAft>
                <a:spcPts val="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647280" indent="-393120">
              <a:lnSpc>
                <a:spcPts val="3175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nquiry-based education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47280" indent="0">
              <a:lnSpc>
                <a:spcPts val="3175"/>
              </a:lnSpc>
              <a:spcAft>
                <a:spcPts val="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1" marL="1144080" indent="-393120">
              <a:lnSpc>
                <a:spcPts val="2273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Life-long learning and knowledge access skills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596520" y="914400"/>
            <a:ext cx="115952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Innovative Use of Learning Technologies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104840" y="2641320"/>
            <a:ext cx="10794960" cy="6908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711360" indent="-432000">
              <a:lnSpc>
                <a:spcPct val="17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mmersive Learning Center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7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Content production 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7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Ubiquitous access to knowledge sources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7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Faculty support and development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7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Pilot projects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7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Evaluation of impact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596520" y="914400"/>
            <a:ext cx="115952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What IRT is Doing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Translational Informatics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650960" y="2438280"/>
            <a:ext cx="9664560" cy="7554240"/>
            <a:chOff x="1650960" y="2438280"/>
            <a:chExt cx="9664560" cy="7554240"/>
          </a:xfrm>
        </p:grpSpPr>
        <p:pic>
          <p:nvPicPr>
            <p:cNvPr id="531" name="" descr=""/>
            <p:cNvPicPr/>
            <p:nvPr/>
          </p:nvPicPr>
          <p:blipFill>
            <a:blip r:embed="rId2"/>
            <a:stretch/>
          </p:blipFill>
          <p:spPr>
            <a:xfrm>
              <a:off x="3314520" y="2438280"/>
              <a:ext cx="635004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3440160" y="6222600"/>
              <a:ext cx="61200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66ff66"/>
                  </a:solidFill>
                  <a:latin typeface="Hoefler Text"/>
                </a:rPr>
                <a:t>IT</a:t>
              </a:r>
              <a:endParaRPr b="0" lang="en-US" sz="3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54240" y="5765400"/>
              <a:ext cx="3227040" cy="125244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999999"/>
                  </a:solidFill>
                  <a:latin typeface="Hoefler Text"/>
                </a:rPr>
                <a:t>Knowledge</a:t>
              </a:r>
              <a:endParaRPr b="0" lang="en-US" sz="38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999999"/>
                  </a:solidFill>
                  <a:latin typeface="Hoefler Text"/>
                </a:rPr>
                <a:t>Management</a:t>
              </a:r>
              <a:endParaRPr b="0" lang="en-US" sz="3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29200" y="6667200"/>
              <a:ext cx="116820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ffff66"/>
                  </a:solidFill>
                  <a:latin typeface="Hoefler Text"/>
                </a:rPr>
                <a:t>Plan</a:t>
              </a:r>
              <a:endParaRPr b="0" lang="en-US" sz="3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66840" y="2565000"/>
              <a:ext cx="278532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ccff66"/>
                  </a:solidFill>
                  <a:latin typeface="Hoefler Text"/>
                </a:rPr>
                <a:t>Informatics</a:t>
              </a:r>
              <a:endParaRPr b="0" lang="en-US" sz="3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50960" y="7581600"/>
              <a:ext cx="9664560" cy="24109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43412c"/>
                  </a:solidFill>
                  <a:latin typeface="Hoefler Text"/>
                </a:rPr>
                <a:t>Informatics as an academic discipline can support translational research and be itself an important area of translational research</a:t>
              </a:r>
              <a:endParaRPr b="0" lang="en-US" sz="3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Definitions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24" name=""/>
          <p:cNvSpPr/>
          <p:nvPr/>
        </p:nvSpPr>
        <p:spPr>
          <a:xfrm>
            <a:off x="2349360" y="2489040"/>
            <a:ext cx="8305920" cy="293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algn="ctr">
              <a:lnSpc>
                <a:spcPts val="5598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333333"/>
                </a:solidFill>
                <a:latin typeface="Hoefler Text"/>
              </a:rPr>
              <a:t>“</a:t>
            </a:r>
            <a:r>
              <a:rPr b="0" i="1" lang="en-US" sz="3000" spc="-1" strike="noStrike">
                <a:solidFill>
                  <a:srgbClr val="80003f"/>
                </a:solidFill>
                <a:latin typeface="Hoefler Text"/>
              </a:rPr>
              <a:t>Information Technology</a:t>
            </a:r>
            <a:r>
              <a:rPr b="0" i="1" lang="en-US" sz="3000" spc="-1" strike="noStrike">
                <a:solidFill>
                  <a:srgbClr val="333333"/>
                </a:solidFill>
                <a:latin typeface="Hoefler Text"/>
              </a:rPr>
              <a:t> is the use of hardware, software, services, and supporting infrastructure to manage and deliver information.” </a:t>
            </a:r>
            <a:endParaRPr b="0" lang="en-US" sz="3000" spc="-1" strike="noStrike">
              <a:solidFill>
                <a:srgbClr val="43412c"/>
              </a:solidFill>
              <a:latin typeface="Hoefler Text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298600" y="4368960"/>
            <a:ext cx="8344080" cy="4156920"/>
            <a:chOff x="2298600" y="4368960"/>
            <a:chExt cx="8344080" cy="4156920"/>
          </a:xfrm>
        </p:grpSpPr>
        <p:sp>
          <p:nvSpPr>
            <p:cNvPr id="426" name=""/>
            <p:cNvSpPr/>
            <p:nvPr/>
          </p:nvSpPr>
          <p:spPr>
            <a:xfrm>
              <a:off x="2298600" y="4876920"/>
              <a:ext cx="8344080" cy="364896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algn="ctr">
                <a:lnSpc>
                  <a:spcPts val="5598"/>
                </a:lnSpc>
                <a:tabLst>
                  <a:tab algn="l" pos="0"/>
                  <a:tab algn="l" pos="71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333333"/>
                  </a:solidFill>
                  <a:latin typeface="Hoefler Text"/>
                </a:rPr>
                <a:t>“</a:t>
              </a:r>
              <a:r>
                <a:rPr b="0" i="1" lang="en-US" sz="3000" spc="-1" strike="noStrike">
                  <a:solidFill>
                    <a:srgbClr val="80003f"/>
                  </a:solidFill>
                  <a:latin typeface="Hoefler Text"/>
                </a:rPr>
                <a:t>Informatics</a:t>
              </a:r>
              <a:r>
                <a:rPr b="0" i="1" lang="en-US" sz="3000" spc="-1" strike="noStrike">
                  <a:solidFill>
                    <a:srgbClr val="333333"/>
                  </a:solidFill>
                  <a:latin typeface="Hoefler Text"/>
                </a:rPr>
                <a:t> is the scientific field that deals with biomedical information, data and knowledge - their storage, retrieval and optimal use for problem-solving and decision-making.” </a:t>
              </a:r>
              <a:endParaRPr b="0" lang="en-US" sz="30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97400" y="4368960"/>
              <a:ext cx="58608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43412c"/>
                  </a:solidFill>
                  <a:latin typeface="Zapf Dingbats"/>
                  <a:ea typeface="Zapf Dingbats"/>
                </a:rPr>
                <a:t>❉</a:t>
              </a:r>
              <a:endParaRPr b="0" lang="en-US" sz="3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70280" y="7467480"/>
            <a:ext cx="7556400" cy="2277000"/>
            <a:chOff x="2870280" y="7467480"/>
            <a:chExt cx="7556400" cy="2277000"/>
          </a:xfrm>
        </p:grpSpPr>
        <p:sp>
          <p:nvSpPr>
            <p:cNvPr id="429" name=""/>
            <p:cNvSpPr/>
            <p:nvPr/>
          </p:nvSpPr>
          <p:spPr>
            <a:xfrm>
              <a:off x="2870280" y="7823160"/>
              <a:ext cx="7556400" cy="19213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333333"/>
                  </a:solidFill>
                  <a:latin typeface="Hoefler Text"/>
                </a:rPr>
                <a:t>“</a:t>
              </a:r>
              <a:r>
                <a:rPr b="0" i="1" lang="en-US" sz="3000" spc="-1" strike="noStrike">
                  <a:solidFill>
                    <a:srgbClr val="80003f"/>
                  </a:solidFill>
                  <a:latin typeface="Hoefler Text"/>
                </a:rPr>
                <a:t>Knowledge Management</a:t>
              </a:r>
              <a:r>
                <a:rPr b="0" i="1" lang="en-US" sz="3000" spc="-1" strike="noStrike">
                  <a:solidFill>
                    <a:srgbClr val="333333"/>
                  </a:solidFill>
                  <a:latin typeface="Hoefler Text"/>
                </a:rPr>
                <a:t> is the collection of processes that govern the creation, dissemination, and utilization of knowledge”</a:t>
              </a:r>
              <a:endParaRPr b="0" lang="en-US" sz="30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84800" y="7467480"/>
              <a:ext cx="586080" cy="67320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43412c"/>
                  </a:solidFill>
                  <a:latin typeface="Zapf Dingbats"/>
                  <a:ea typeface="Zapf Dingbats"/>
                </a:rPr>
                <a:t>❉</a:t>
              </a:r>
              <a:endParaRPr b="0" lang="en-US" sz="3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837720" y="2540160"/>
            <a:ext cx="11315880" cy="7061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689760" indent="-41904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nformation technology expertise alone cannot guarantee effective use of IT in biomedicine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nformatics complements IT expertise in creating solutions to complex “real-world” problems in Biomedicine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IRT strategic plan will create new opportunities for Applied Informatics research and education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We need to grow our Applied Informatics communit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Informatics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7720" y="2527200"/>
            <a:ext cx="11315880" cy="7493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711360" indent="-43200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“</a:t>
            </a: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Clinical Informatics”,in contrast to BioInformatics, is underdeveloped at Stanford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greatest need for Informatics is in the clinical and translational research areas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A new academic Clinical Informatics Center will foster Informatics at the School level and work with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1" marL="1257480" indent="-43200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Departments and institutes to help develop domain-specific Informatics programs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257480" indent="-43200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The Hospitals to assist in the effective implementation of knowledge-based clinical systems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1257480" y="1168560"/>
            <a:ext cx="1046448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A Clinical Informatics Center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7720" y="2374920"/>
            <a:ext cx="11315880" cy="7772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668520" indent="-406080">
              <a:lnSpc>
                <a:spcPts val="3472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EMR is a critical component of the Biomedical IT infrastructure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8520" indent="0">
              <a:lnSpc>
                <a:spcPts val="3472"/>
              </a:lnSpc>
              <a:spcAft>
                <a:spcPts val="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8520" indent="-406080">
              <a:lnSpc>
                <a:spcPts val="3472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Clinical systems development must be collaborative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68520" indent="0">
              <a:lnSpc>
                <a:spcPts val="3472"/>
              </a:lnSpc>
              <a:spcAft>
                <a:spcPts val="1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1" marL="1181880" indent="-406080">
              <a:lnSpc>
                <a:spcPts val="2574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Understanding workflow and context is critical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81880" indent="0">
              <a:lnSpc>
                <a:spcPts val="2574"/>
              </a:lnSpc>
              <a:spcAft>
                <a:spcPts val="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81880" indent="-406080">
              <a:lnSpc>
                <a:spcPts val="2574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The academic user community should be a major driver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81880" indent="0">
              <a:lnSpc>
                <a:spcPts val="2574"/>
              </a:lnSpc>
              <a:spcAft>
                <a:spcPts val="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81880" indent="-406080">
              <a:lnSpc>
                <a:spcPts val="2574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Tight integration with clinical research systems is essential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81880" indent="0">
              <a:lnSpc>
                <a:spcPts val="2574"/>
              </a:lnSpc>
              <a:spcAft>
                <a:spcPts val="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81880" indent="-406080">
              <a:lnSpc>
                <a:spcPts val="2574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Tight coupling of knowledge resources to the point of care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181880" indent="0">
              <a:lnSpc>
                <a:spcPts val="2574"/>
              </a:lnSpc>
              <a:spcAft>
                <a:spcPts val="1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668520" indent="-406080">
              <a:lnSpc>
                <a:spcPts val="3472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Where clinical IT has been successful it has involved a real working partnership of Hospital IT, Clinical Informatics and the user communit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257480" y="1168560"/>
            <a:ext cx="1046448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Clinical Systems Development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04480" y="787320"/>
            <a:ext cx="1096020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Informatics and</a:t>
            </a:r>
            <a:br>
              <a:rPr sz="4800"/>
            </a:b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Translational Research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32800" y="2527200"/>
            <a:ext cx="2312640" cy="2872800"/>
            <a:chOff x="532800" y="2527200"/>
            <a:chExt cx="2312640" cy="2872800"/>
          </a:xfrm>
        </p:grpSpPr>
        <p:pic>
          <p:nvPicPr>
            <p:cNvPr id="545" name="" descr=""/>
            <p:cNvPicPr/>
            <p:nvPr/>
          </p:nvPicPr>
          <p:blipFill>
            <a:blip r:embed="rId2"/>
            <a:stretch/>
          </p:blipFill>
          <p:spPr>
            <a:xfrm>
              <a:off x="920520" y="2527200"/>
              <a:ext cx="1536840" cy="228600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46" name=""/>
            <p:cNvSpPr/>
            <p:nvPr/>
          </p:nvSpPr>
          <p:spPr>
            <a:xfrm>
              <a:off x="532800" y="4940280"/>
              <a:ext cx="2312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f80"/>
                  </a:solidFill>
                  <a:latin typeface="Hoefler Text"/>
                </a:rPr>
                <a:t>Basic Research</a:t>
              </a:r>
              <a:endParaRPr b="0" lang="en-US" sz="2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8559720" y="6051600"/>
            <a:ext cx="3175200" cy="3361680"/>
            <a:chOff x="8559720" y="6051600"/>
            <a:chExt cx="3175200" cy="3361680"/>
          </a:xfrm>
        </p:grpSpPr>
        <p:pic>
          <p:nvPicPr>
            <p:cNvPr id="548" name="" descr=""/>
            <p:cNvPicPr/>
            <p:nvPr/>
          </p:nvPicPr>
          <p:blipFill>
            <a:blip r:embed="rId3"/>
            <a:stretch/>
          </p:blipFill>
          <p:spPr>
            <a:xfrm>
              <a:off x="8559720" y="6051600"/>
              <a:ext cx="3175200" cy="273060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49" name=""/>
            <p:cNvSpPr/>
            <p:nvPr/>
          </p:nvSpPr>
          <p:spPr>
            <a:xfrm>
              <a:off x="8841240" y="8953560"/>
              <a:ext cx="25869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3f"/>
                  </a:solidFill>
                  <a:latin typeface="Hoefler Text"/>
                </a:rPr>
                <a:t>Clinical Research</a:t>
              </a:r>
              <a:endParaRPr b="0" lang="en-US" sz="2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762440" y="4381560"/>
            <a:ext cx="2793960" cy="2644200"/>
            <a:chOff x="4762440" y="4381560"/>
            <a:chExt cx="2793960" cy="2644200"/>
          </a:xfrm>
        </p:grpSpPr>
        <p:pic>
          <p:nvPicPr>
            <p:cNvPr id="551" name="" descr=""/>
            <p:cNvPicPr/>
            <p:nvPr/>
          </p:nvPicPr>
          <p:blipFill>
            <a:blip r:embed="rId4"/>
            <a:stretch/>
          </p:blipFill>
          <p:spPr>
            <a:xfrm>
              <a:off x="4762440" y="4381560"/>
              <a:ext cx="2793960" cy="205740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52" name=""/>
            <p:cNvSpPr/>
            <p:nvPr/>
          </p:nvSpPr>
          <p:spPr>
            <a:xfrm>
              <a:off x="5385600" y="6566040"/>
              <a:ext cx="18266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Hoefler Text"/>
                </a:rPr>
                <a:t>Informatics</a:t>
              </a:r>
              <a:endParaRPr b="0" lang="en-US" sz="2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540160" y="2374920"/>
            <a:ext cx="4787640" cy="146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0042"/>
                </a:solidFill>
                <a:latin typeface="Hoefler Text"/>
              </a:rPr>
              <a:t>Data management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0042"/>
                </a:solidFill>
                <a:latin typeface="Hoefler Text"/>
              </a:rPr>
              <a:t>Knowledge access &amp; management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0042"/>
                </a:solidFill>
                <a:latin typeface="Hoefler Text"/>
              </a:rPr>
              <a:t>Collaborative Systems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0042"/>
                </a:solidFill>
                <a:latin typeface="Hoefler Text"/>
              </a:rPr>
              <a:t>High performance computing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0042"/>
                </a:solidFill>
                <a:latin typeface="Hoefler Text"/>
              </a:rPr>
              <a:t>Access to clinical data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54" name=""/>
          <p:cNvSpPr/>
          <p:nvPr/>
        </p:nvSpPr>
        <p:spPr>
          <a:xfrm>
            <a:off x="5219640" y="7442280"/>
            <a:ext cx="4788000" cy="14655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0800"/>
                </a:solidFill>
                <a:latin typeface="Hoefler Text"/>
              </a:rPr>
              <a:t>EMR development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0800"/>
                </a:solidFill>
                <a:latin typeface="Hoefler Text"/>
              </a:rPr>
              <a:t>Clinical data acquisition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0800"/>
                </a:solidFill>
                <a:latin typeface="Hoefler Text"/>
              </a:rPr>
              <a:t>Clinical trials management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0800"/>
                </a:solidFill>
                <a:latin typeface="Hoefler Text"/>
              </a:rPr>
              <a:t>Integration with clinical systems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0800"/>
                </a:solidFill>
                <a:latin typeface="Hoefler Text"/>
              </a:rPr>
              <a:t>Knowledge-based decision making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55" name=""/>
          <p:cNvSpPr/>
          <p:nvPr/>
        </p:nvSpPr>
        <p:spPr>
          <a:xfrm>
            <a:off x="7746840" y="4038480"/>
            <a:ext cx="4788000" cy="1739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00"/>
                </a:solidFill>
                <a:latin typeface="Hoefler Text"/>
              </a:rPr>
              <a:t>Data analysis and visualization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00"/>
                </a:solidFill>
                <a:latin typeface="Hoefler Text"/>
              </a:rPr>
              <a:t>Integrated data repository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00"/>
                </a:solidFill>
                <a:latin typeface="Hoefler Text"/>
              </a:rPr>
              <a:t>Tissue banking systems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00"/>
                </a:solidFill>
                <a:latin typeface="Hoefler Text"/>
              </a:rPr>
              <a:t>Image managment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00"/>
                </a:solidFill>
                <a:latin typeface="Hoefler Text"/>
              </a:rPr>
              <a:t>Knowledge representation</a:t>
            </a: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815840" y="2692440"/>
            <a:ext cx="9372600" cy="66801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711360" indent="-432000">
              <a:spcAft>
                <a:spcPts val="1400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Hospital-School IT steering committee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spcAft>
                <a:spcPts val="1400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Clinical Informatics Center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spcAft>
                <a:spcPts val="1400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Secure wireless network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spcAft>
                <a:spcPts val="1400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Planning for Clinical and Research Data Repository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spcAft>
                <a:spcPts val="1400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The Library as our Knowledge Management Center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spcAft>
                <a:spcPts val="1400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Data security policies for School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spcAft>
                <a:spcPts val="1400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Immersive Learning Center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spcAft>
                <a:spcPts val="1400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Task force to examine user support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711360" indent="-432000">
              <a:spcAft>
                <a:spcPts val="1400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New Website for School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Major IRT Goals for 2003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Lucida Grande"/>
              </a:rPr>
              <a:t>IRT Goals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39600" y="2488680"/>
            <a:ext cx="11264760" cy="6350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31640" indent="-431640"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Become a leader in the effective use of innovative information technology (IT) in biomedicine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431640" indent="-431640"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ntegrate IT, informatics and knowledge management resources to support the biomedical mission 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431640" indent="-431640"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Plan and implement IRT collaborativel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431640" indent="-431640"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Have IRT driven by a coherent strategic plan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431640" indent="-431640"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Support the Stanford Biomedical Community’s clinical, research and educational missions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41200" y="228600"/>
            <a:ext cx="2489400" cy="8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228600" y="2705040"/>
            <a:ext cx="12547440" cy="6858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 fontScale="96000"/>
          </a:bodyPr>
          <a:p>
            <a:pPr marL="682560" indent="-414720">
              <a:lnSpc>
                <a:spcPct val="16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Senior Associate Dean position created March 2002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2560" indent="-414720">
              <a:lnSpc>
                <a:spcPct val="16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Our mandate is to develop, collaboratively, an effective IT strategy for the Stanford Biomedical Communit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1" marL="1207080" indent="-414720">
              <a:lnSpc>
                <a:spcPct val="16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Provide state-of-the-art IT infrastructure and services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207080" indent="-414720">
              <a:lnSpc>
                <a:spcPct val="16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Support access to and management of knowledge resources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lvl="1" marL="1207080" indent="-414720">
              <a:lnSpc>
                <a:spcPct val="16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Couple applied informatics with our needs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682560" indent="-414720">
              <a:lnSpc>
                <a:spcPct val="16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ntegration of MedIT, SUMMIT and Lane Librar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2560" indent="-414720">
              <a:lnSpc>
                <a:spcPct val="16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RT strategic planning completed September 2002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1269720" y="1117080"/>
            <a:ext cx="10464840" cy="1460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lnSpc>
                <a:spcPct val="100000"/>
              </a:lnSpc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Lucida Grande"/>
              </a:rPr>
              <a:t>Information</a:t>
            </a: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 </a:t>
            </a:r>
            <a:r>
              <a:rPr b="1" lang="en-US" sz="4800" spc="-1" strike="noStrike">
                <a:solidFill>
                  <a:srgbClr val="43412c"/>
                </a:solidFill>
                <a:latin typeface="Lucida Grande"/>
              </a:rPr>
              <a:t>Resources</a:t>
            </a:r>
            <a:br>
              <a:rPr sz="4800"/>
            </a:br>
            <a:r>
              <a:rPr b="1" lang="en-US" sz="4800" spc="-1" strike="noStrike">
                <a:solidFill>
                  <a:srgbClr val="43412c"/>
                </a:solidFill>
                <a:latin typeface="Lucida Grande"/>
              </a:rPr>
              <a:t>and</a:t>
            </a: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 </a:t>
            </a:r>
            <a:r>
              <a:rPr b="1" lang="en-US" sz="4800" spc="-1" strike="noStrike">
                <a:solidFill>
                  <a:srgbClr val="43412c"/>
                </a:solidFill>
                <a:latin typeface="Lucida Grande"/>
              </a:rPr>
              <a:t>Technology (IRT)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IRT Strategic Planning Group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37" name=""/>
          <p:cNvSpPr/>
          <p:nvPr/>
        </p:nvSpPr>
        <p:spPr>
          <a:xfrm>
            <a:off x="1854360" y="2616120"/>
            <a:ext cx="9296280" cy="6861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Carole Buffum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Executive Director, Finance and Administration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Parvati Dev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Associate Dean for Learning Technologies, IRT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Jin Hahn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Associate Professor Of Neurology and Pediatrics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Rob Krochak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DFA, Department of Pathology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Michael Levitt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Professor Of Structural Biology and Computer Science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Henry Lowe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 - Senior Associate Dean IRT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Shannon Moffett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Medical Student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Don Regula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Associate Professor of Pathology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Valerie Su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Acting Director, Lane Library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Gerry Weitz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Director of Operations, IRT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oefler Text"/>
              </a:rPr>
              <a:t>David O’Brien - </a:t>
            </a:r>
            <a:r>
              <a:rPr b="0" i="1" lang="en-US" sz="2400" spc="-1" strike="noStrike">
                <a:solidFill>
                  <a:srgbClr val="000000"/>
                </a:solidFill>
                <a:latin typeface="Hoefler Text"/>
              </a:rPr>
              <a:t>Director, Office of Institutional Planning</a:t>
            </a: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  <a:p>
            <a:pPr marL="907920" indent="-450720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11685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IRT Organization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14480" y="3505320"/>
            <a:ext cx="12788280" cy="2730240"/>
            <a:chOff x="114480" y="3505320"/>
            <a:chExt cx="12788280" cy="2730240"/>
          </a:xfrm>
        </p:grpSpPr>
        <p:sp>
          <p:nvSpPr>
            <p:cNvPr id="440" name=""/>
            <p:cNvSpPr/>
            <p:nvPr/>
          </p:nvSpPr>
          <p:spPr>
            <a:xfrm>
              <a:off x="2234880" y="5156280"/>
              <a:ext cx="1803240" cy="1079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b8af">
                <a:alpha val="50000"/>
              </a:srgbClr>
            </a:solidFill>
            <a:ln w="25560">
              <a:solidFill>
                <a:srgbClr val="43412c">
                  <a:alpha val="50000"/>
                </a:srgbClr>
              </a:solidFill>
              <a:round/>
            </a:ln>
            <a:effectLst>
              <a:outerShdw dist="10182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4480" y="5156280"/>
              <a:ext cx="1802880" cy="1079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b8af">
                <a:alpha val="50000"/>
              </a:srgbClr>
            </a:solidFill>
            <a:ln w="25560">
              <a:solidFill>
                <a:srgbClr val="43412c">
                  <a:alpha val="50000"/>
                </a:srgbClr>
              </a:solidFill>
              <a:round/>
            </a:ln>
            <a:effectLst>
              <a:outerShdw dist="10182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813200" y="3505320"/>
              <a:ext cx="3161880" cy="1079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b8af">
                <a:alpha val="50000"/>
              </a:srgbClr>
            </a:solidFill>
            <a:ln w="25560">
              <a:solidFill>
                <a:srgbClr val="43412c">
                  <a:alpha val="50000"/>
                </a:srgbClr>
              </a:solidFill>
              <a:round/>
            </a:ln>
            <a:effectLst>
              <a:outerShdw dist="101571" dir="3297484" blurRad="0" rotWithShape="0">
                <a:srgbClr val="04003b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8960" y="3733920"/>
              <a:ext cx="347256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oefler Text"/>
                </a:rPr>
                <a:t>Senior Associate Dean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oefler Text"/>
                </a:rPr>
                <a:t>Information Resources and Technology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Hoefler Text"/>
                </a:rPr>
                <a:t>Henry Lowe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9720" y="5371920"/>
              <a:ext cx="129168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Director of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IT operations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Gerry Weitz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98440" y="5371920"/>
              <a:ext cx="207648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Associate Dean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Learning Technologies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Parvati Dev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93800" y="5156280"/>
              <a:ext cx="1803240" cy="1079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b8af">
                <a:alpha val="50000"/>
              </a:srgbClr>
            </a:solidFill>
            <a:ln w="25560">
              <a:solidFill>
                <a:srgbClr val="43412c">
                  <a:alpha val="50000"/>
                </a:srgbClr>
              </a:solidFill>
              <a:round/>
            </a:ln>
            <a:effectLst>
              <a:outerShdw dist="10182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51400" y="5371920"/>
              <a:ext cx="16880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Director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Lane Library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Valerie Su (Acting)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14920" y="5156280"/>
              <a:ext cx="1802880" cy="1079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b8af">
                <a:alpha val="50000"/>
              </a:srgbClr>
            </a:solidFill>
            <a:ln w="25560">
              <a:solidFill>
                <a:srgbClr val="43412c">
                  <a:alpha val="50000"/>
                </a:srgbClr>
              </a:solidFill>
              <a:round/>
            </a:ln>
            <a:effectLst>
              <a:outerShdw dist="10182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87920" y="5371920"/>
              <a:ext cx="18572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Director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IT Development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Henry Lowe (Acting)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635680" y="5156280"/>
              <a:ext cx="1879200" cy="1079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b8af">
                <a:alpha val="50000"/>
              </a:srgbClr>
            </a:solidFill>
            <a:ln w="25560">
              <a:solidFill>
                <a:srgbClr val="43412c">
                  <a:alpha val="50000"/>
                </a:srgbClr>
              </a:solidFill>
              <a:round/>
            </a:ln>
            <a:effectLst>
              <a:outerShdw dist="10182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22640" y="5371920"/>
              <a:ext cx="21056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Director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Privacy &amp; Data Security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Todd Ferris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807560" y="5156280"/>
              <a:ext cx="1802880" cy="10792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solidFill>
              <a:srgbClr val="ffb8af">
                <a:alpha val="50000"/>
              </a:srgbClr>
            </a:solidFill>
            <a:ln w="25560">
              <a:solidFill>
                <a:srgbClr val="43412c">
                  <a:alpha val="50000"/>
                </a:srgbClr>
              </a:solidFill>
              <a:round/>
            </a:ln>
            <a:effectLst>
              <a:outerShdw dist="101823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515240" y="5371920"/>
              <a:ext cx="238752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Director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Finance &amp; Admin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a0042"/>
                  </a:solidFill>
                  <a:latin typeface="Hoefler Text"/>
                </a:rPr>
                <a:t>To Be recruited</a:t>
              </a:r>
              <a:endParaRPr b="0" lang="en-US" sz="14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053720" y="4876920"/>
              <a:ext cx="10653480" cy="12600"/>
              <a:chOff x="1053720" y="4876920"/>
              <a:chExt cx="10653480" cy="12600"/>
            </a:xfrm>
          </p:grpSpPr>
          <p:sp>
            <p:nvSpPr>
              <p:cNvPr id="455" name=""/>
              <p:cNvSpPr/>
              <p:nvPr/>
            </p:nvSpPr>
            <p:spPr>
              <a:xfrm>
                <a:off x="1053720" y="4883400"/>
                <a:ext cx="10652040" cy="0"/>
              </a:xfrm>
              <a:prstGeom prst="line">
                <a:avLst/>
              </a:prstGeom>
              <a:ln w="25560">
                <a:solidFill>
                  <a:srgbClr val="4341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53720" y="4883400"/>
                <a:ext cx="0" cy="6120"/>
              </a:xfrm>
              <a:prstGeom prst="line">
                <a:avLst/>
              </a:prstGeom>
              <a:ln w="25560">
                <a:solidFill>
                  <a:srgbClr val="4341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136320" y="4883400"/>
                <a:ext cx="0" cy="6120"/>
              </a:xfrm>
              <a:prstGeom prst="line">
                <a:avLst/>
              </a:prstGeom>
              <a:ln w="25560">
                <a:solidFill>
                  <a:srgbClr val="4341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294880" y="4883400"/>
                <a:ext cx="0" cy="6120"/>
              </a:xfrm>
              <a:prstGeom prst="line">
                <a:avLst/>
              </a:prstGeom>
              <a:ln w="25560">
                <a:solidFill>
                  <a:srgbClr val="4341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415280" y="4883400"/>
                <a:ext cx="0" cy="6120"/>
              </a:xfrm>
              <a:prstGeom prst="line">
                <a:avLst/>
              </a:prstGeom>
              <a:ln w="25560">
                <a:solidFill>
                  <a:srgbClr val="4341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573840" y="4883400"/>
                <a:ext cx="0" cy="6120"/>
              </a:xfrm>
              <a:prstGeom prst="line">
                <a:avLst/>
              </a:prstGeom>
              <a:ln w="25560">
                <a:solidFill>
                  <a:srgbClr val="4341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1707200" y="4883400"/>
                <a:ext cx="0" cy="6120"/>
              </a:xfrm>
              <a:prstGeom prst="line">
                <a:avLst/>
              </a:prstGeom>
              <a:ln w="25560">
                <a:solidFill>
                  <a:srgbClr val="4341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73800" y="4876920"/>
                <a:ext cx="0" cy="6120"/>
              </a:xfrm>
              <a:prstGeom prst="line">
                <a:avLst/>
              </a:prstGeom>
              <a:ln w="25560">
                <a:solidFill>
                  <a:srgbClr val="4341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</p:grpSp>
      </p:grp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269720" y="2641680"/>
            <a:ext cx="10464840" cy="65786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rmAutofit fontScale="97000"/>
          </a:bodyPr>
          <a:p>
            <a:pPr marL="689760" indent="-41904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 future of biomedicine is interdisciplinar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There is a Stanford Biomedical Communit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lvl="1" marL="1219680" indent="-41904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12c"/>
                </a:solidFill>
                <a:latin typeface="Hoefler Text"/>
              </a:rPr>
              <a:t>The Hospitals, School of Medicine, Clark Center, Bioengineering</a:t>
            </a:r>
            <a:endParaRPr b="0" lang="en-US" sz="28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If translational research is to be successful, information must flow effectively within this community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  <a:p>
            <a:pPr marL="689760" indent="-419040">
              <a:lnSpc>
                <a:spcPct val="130000"/>
              </a:lnSpc>
              <a:spcAft>
                <a:spcPts val="11"/>
              </a:spcAft>
              <a:buClr>
                <a:srgbClr val="43412c"/>
              </a:buClr>
              <a:buSzPct val="125000"/>
              <a:buFont typeface="Hoefl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3412c"/>
                </a:solidFill>
                <a:latin typeface="Hoefler Text"/>
              </a:rPr>
              <a:t>Biomedical IRT planning and implementation must be a collaborative community process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269720" y="1181160"/>
            <a:ext cx="10464840" cy="119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368280" indent="0" algn="ctr"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Collaborative IRT Planning</a:t>
            </a:r>
            <a:br>
              <a:rPr sz="4800"/>
            </a:br>
            <a:r>
              <a:rPr b="1" lang="en-US" sz="4800" spc="-1" strike="noStrike">
                <a:solidFill>
                  <a:srgbClr val="43412c"/>
                </a:solidFill>
                <a:latin typeface="Hoefler Text"/>
              </a:rPr>
              <a:t>is Critical</a:t>
            </a:r>
            <a:endParaRPr b="1" lang="en-US" sz="4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4356000" y="1447920"/>
            <a:ext cx="4318200" cy="537192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</a:path>
            </a:pathLst>
          </a:custGeom>
          <a:gradFill rotWithShape="0">
            <a:gsLst>
              <a:gs pos="0">
                <a:srgbClr val="e20042">
                  <a:alpha val="30196"/>
                </a:srgbClr>
              </a:gs>
              <a:gs pos="100000">
                <a:srgbClr val="ffd6e6">
                  <a:alpha val="30196"/>
                </a:srgbClr>
              </a:gs>
            </a:gsLst>
            <a:lin ang="16200000"/>
          </a:gradFill>
          <a:ln w="25560">
            <a:solidFill>
              <a:srgbClr val="00045b">
                <a:alpha val="30000"/>
              </a:srgbClr>
            </a:solidFill>
            <a:prstDash val="sysDot"/>
            <a:round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66" name=""/>
          <p:cNvSpPr/>
          <p:nvPr/>
        </p:nvSpPr>
        <p:spPr>
          <a:xfrm>
            <a:off x="2006640" y="4508640"/>
            <a:ext cx="5968800" cy="340344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</a:path>
            </a:pathLst>
          </a:custGeom>
          <a:gradFill rotWithShape="0">
            <a:gsLst>
              <a:gs pos="0">
                <a:srgbClr val="0100dd">
                  <a:alpha val="30196"/>
                </a:srgbClr>
              </a:gs>
              <a:gs pos="100000">
                <a:srgbClr val="dfdfff">
                  <a:alpha val="30196"/>
                </a:srgbClr>
              </a:gs>
            </a:gsLst>
            <a:lin ang="16200000"/>
          </a:gradFill>
          <a:ln w="25560">
            <a:solidFill>
              <a:srgbClr val="00045b">
                <a:alpha val="30000"/>
              </a:srgbClr>
            </a:solidFill>
            <a:prstDash val="sysDot"/>
            <a:round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67" name=""/>
          <p:cNvSpPr/>
          <p:nvPr/>
        </p:nvSpPr>
        <p:spPr>
          <a:xfrm>
            <a:off x="5308560" y="4508640"/>
            <a:ext cx="5969160" cy="340344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</a:path>
            </a:pathLst>
          </a:custGeom>
          <a:gradFill rotWithShape="0">
            <a:gsLst>
              <a:gs pos="0">
                <a:srgbClr val="0beb00">
                  <a:alpha val="30196"/>
                </a:srgbClr>
              </a:gs>
              <a:gs pos="100000">
                <a:srgbClr val="dfffe2">
                  <a:alpha val="30196"/>
                </a:srgbClr>
              </a:gs>
            </a:gsLst>
            <a:lin ang="16200000"/>
          </a:gradFill>
          <a:ln w="25560">
            <a:solidFill>
              <a:srgbClr val="00045b">
                <a:alpha val="30000"/>
              </a:srgbClr>
            </a:solidFill>
            <a:prstDash val="sysDot"/>
            <a:round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3412c"/>
              </a:solidFill>
              <a:latin typeface="Hoefler Text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556240" y="5492880"/>
            <a:ext cx="2019240" cy="8254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219640" y="3162240"/>
            <a:ext cx="2578320" cy="673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University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70" name=""/>
          <p:cNvSpPr/>
          <p:nvPr/>
        </p:nvSpPr>
        <p:spPr>
          <a:xfrm>
            <a:off x="2641680" y="6095880"/>
            <a:ext cx="2577960" cy="673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Hospitals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</p:txBody>
      </p:sp>
      <p:sp>
        <p:nvSpPr>
          <p:cNvPr id="471" name=""/>
          <p:cNvSpPr/>
          <p:nvPr/>
        </p:nvSpPr>
        <p:spPr>
          <a:xfrm>
            <a:off x="8115480" y="6095880"/>
            <a:ext cx="2577960" cy="673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3412c"/>
                </a:solidFill>
                <a:latin typeface="Hoefler Text"/>
              </a:rPr>
              <a:t>School</a:t>
            </a:r>
            <a:endParaRPr b="0" lang="en-US" sz="3800" spc="-1" strike="noStrike">
              <a:solidFill>
                <a:srgbClr val="43412c"/>
              </a:solidFill>
              <a:latin typeface="Hoefler Text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1968480" y="8255160"/>
            <a:ext cx="8889840" cy="1269720"/>
            <a:chOff x="1968480" y="8255160"/>
            <a:chExt cx="8889840" cy="1269720"/>
          </a:xfrm>
        </p:grpSpPr>
        <p:grpSp>
          <p:nvGrpSpPr>
            <p:cNvPr id="473" name=""/>
            <p:cNvGrpSpPr/>
            <p:nvPr/>
          </p:nvGrpSpPr>
          <p:grpSpPr>
            <a:xfrm>
              <a:off x="1968480" y="8255160"/>
              <a:ext cx="8889840" cy="1269720"/>
              <a:chOff x="1968480" y="8255160"/>
              <a:chExt cx="8889840" cy="1269720"/>
            </a:xfrm>
          </p:grpSpPr>
          <p:sp>
            <p:nvSpPr>
              <p:cNvPr id="474" name=""/>
              <p:cNvSpPr/>
              <p:nvPr/>
            </p:nvSpPr>
            <p:spPr>
              <a:xfrm>
                <a:off x="1968480" y="8255160"/>
                <a:ext cx="8889840" cy="1269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gradFill rotWithShape="0">
                <a:gsLst>
                  <a:gs pos="0">
                    <a:srgbClr val="00662a"/>
                  </a:gs>
                  <a:gs pos="100000">
                    <a:srgbClr val="c6ffc3"/>
                  </a:gs>
                </a:gsLst>
                <a:lin ang="16200000"/>
              </a:gradFill>
              <a:ln w="25560">
                <a:solidFill>
                  <a:srgbClr val="4341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733640" y="8280360"/>
                <a:ext cx="3359880" cy="673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25455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5e0a00"/>
                    </a:solidFill>
                    <a:latin typeface="Hoefler Text"/>
                  </a:rPr>
                  <a:t>Infrastructure</a:t>
                </a:r>
                <a:endParaRPr b="0" lang="en-US" sz="38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131200" y="8889840"/>
              <a:ext cx="1172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0a00"/>
                  </a:solidFill>
                  <a:latin typeface="Hoefler Text"/>
                </a:rPr>
                <a:t>Expertise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59080" y="8889840"/>
              <a:ext cx="1101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0a00"/>
                  </a:solidFill>
                  <a:latin typeface="Hoefler Text"/>
                </a:rPr>
                <a:t>Network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96320" y="8889840"/>
              <a:ext cx="1468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0a00"/>
                  </a:solidFill>
                  <a:latin typeface="Hoefler Text"/>
                </a:rPr>
                <a:t>Data Center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93200" y="8889840"/>
              <a:ext cx="1040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0a00"/>
                  </a:solidFill>
                  <a:latin typeface="Hoefler Text"/>
                </a:rPr>
                <a:t>Security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55120" y="8889840"/>
              <a:ext cx="2545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0a00"/>
                  </a:solidFill>
                  <a:latin typeface="Hoefler Text"/>
                </a:rPr>
                <a:t>Knowledge Resources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365400" y="8889840"/>
              <a:ext cx="11318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0a00"/>
                  </a:solidFill>
                  <a:latin typeface="Hoefler Text"/>
                </a:rPr>
                <a:t>Planning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286000" y="5359320"/>
            <a:ext cx="8242200" cy="1902600"/>
            <a:chOff x="2286000" y="5359320"/>
            <a:chExt cx="8242200" cy="1902600"/>
          </a:xfrm>
        </p:grpSpPr>
        <p:grpSp>
          <p:nvGrpSpPr>
            <p:cNvPr id="483" name=""/>
            <p:cNvGrpSpPr/>
            <p:nvPr/>
          </p:nvGrpSpPr>
          <p:grpSpPr>
            <a:xfrm>
              <a:off x="2286000" y="5359320"/>
              <a:ext cx="8242200" cy="1676520"/>
              <a:chOff x="2286000" y="5359320"/>
              <a:chExt cx="8242200" cy="1676520"/>
            </a:xfrm>
          </p:grpSpPr>
          <p:sp>
            <p:nvSpPr>
              <p:cNvPr id="484" name=""/>
              <p:cNvSpPr/>
              <p:nvPr/>
            </p:nvSpPr>
            <p:spPr>
              <a:xfrm>
                <a:off x="2286000" y="5359320"/>
                <a:ext cx="8242200" cy="16765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10000"/>
                    </a:moveTo>
                    <a:lnTo>
                      <a:pt x="20000" y="10000"/>
                    </a:lnTo>
                    <a:lnTo>
                      <a:pt x="20000" y="20000"/>
                    </a:lnTo>
                    <a:lnTo>
                      <a:pt x="10000" y="20000"/>
                    </a:lnTo>
                    <a:close/>
                    <a:moveTo>
                      <a:pt x="10000" y="10000"/>
                    </a:moveTo>
                  </a:path>
                </a:pathLst>
              </a:custGeom>
              <a:gradFill rotWithShape="0">
                <a:gsLst>
                  <a:gs pos="0">
                    <a:srgbClr val="897900"/>
                  </a:gs>
                  <a:gs pos="100000">
                    <a:srgbClr val="fffbd3"/>
                  </a:gs>
                </a:gsLst>
                <a:lin ang="16200000"/>
              </a:gradFill>
              <a:ln w="25560">
                <a:solidFill>
                  <a:srgbClr val="4341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29080" y="5461200"/>
                <a:ext cx="5920200" cy="6732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25455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000450"/>
                    </a:solidFill>
                    <a:latin typeface="Hoefler Text"/>
                  </a:rPr>
                  <a:t>Applications and Services</a:t>
                </a:r>
                <a:endParaRPr b="0" lang="en-US" sz="38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175560" y="6070680"/>
              <a:ext cx="66531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Hoefler Text"/>
                </a:rPr>
                <a:t>Support, Training, Advocacy &amp; Planning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Hoefler Text"/>
                </a:rPr>
                <a:t>Information Acquisition, Hosting, Management &amp; Access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Hoefler Text"/>
                </a:rPr>
                <a:t>Knowledge Access and Delivery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298600" y="1219320"/>
            <a:ext cx="8242200" cy="4127040"/>
            <a:chOff x="2298600" y="1219320"/>
            <a:chExt cx="8242200" cy="4127040"/>
          </a:xfrm>
        </p:grpSpPr>
        <p:grpSp>
          <p:nvGrpSpPr>
            <p:cNvPr id="488" name=""/>
            <p:cNvGrpSpPr/>
            <p:nvPr/>
          </p:nvGrpSpPr>
          <p:grpSpPr>
            <a:xfrm>
              <a:off x="2298600" y="3301920"/>
              <a:ext cx="8242200" cy="2044440"/>
              <a:chOff x="2298600" y="3301920"/>
              <a:chExt cx="8242200" cy="2044440"/>
            </a:xfrm>
          </p:grpSpPr>
          <p:sp>
            <p:nvSpPr>
              <p:cNvPr id="489" name=""/>
              <p:cNvSpPr/>
              <p:nvPr/>
            </p:nvSpPr>
            <p:spPr>
              <a:xfrm>
                <a:off x="2298600" y="3301920"/>
                <a:ext cx="8242200" cy="20444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0000" y="20000"/>
                    </a:moveTo>
                    <a:lnTo>
                      <a:pt x="20000" y="20000"/>
                    </a:lnTo>
                    <a:lnTo>
                      <a:pt x="15000" y="10000"/>
                    </a:lnTo>
                    <a:close/>
                    <a:moveTo>
                      <a:pt x="10000" y="20000"/>
                    </a:moveTo>
                  </a:path>
                </a:pathLst>
              </a:custGeom>
              <a:gradFill rotWithShape="0">
                <a:gsLst>
                  <a:gs pos="0">
                    <a:srgbClr val="8c0e00"/>
                  </a:gs>
                  <a:gs pos="100000">
                    <a:srgbClr val="ffdfdd"/>
                  </a:gs>
                </a:gsLst>
                <a:lin ang="16200000"/>
              </a:gradFill>
              <a:ln w="25560">
                <a:solidFill>
                  <a:srgbClr val="4341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12600" y="3974760"/>
                <a:ext cx="5753880" cy="1252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25455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Hoefler Text"/>
                  </a:rPr>
                  <a:t>Stanford</a:t>
                </a:r>
                <a:endParaRPr b="0" lang="en-US" sz="3800" spc="-1" strike="noStrike">
                  <a:solidFill>
                    <a:srgbClr val="43412c"/>
                  </a:solidFill>
                  <a:latin typeface="Hoefler Text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800" spc="-1" strike="noStrike">
                    <a:solidFill>
                      <a:srgbClr val="ffffff"/>
                    </a:solidFill>
                    <a:latin typeface="Hoefler Text"/>
                  </a:rPr>
                  <a:t>Biomedicine Community</a:t>
                </a:r>
                <a:endParaRPr b="0" lang="en-US" sz="3800" spc="-1" strike="noStrike">
                  <a:solidFill>
                    <a:srgbClr val="43412c"/>
                  </a:solidFill>
                  <a:latin typeface="Hoefler Text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3035160" y="1219320"/>
              <a:ext cx="6756480" cy="3021840"/>
              <a:chOff x="3035160" y="1219320"/>
              <a:chExt cx="6756480" cy="302184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3035160" y="2197080"/>
                <a:ext cx="2451240" cy="2044080"/>
                <a:chOff x="3035160" y="2197080"/>
                <a:chExt cx="2451240" cy="20440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035160" y="2197080"/>
                  <a:ext cx="2451240" cy="2044080"/>
                </a:xfrm>
                <a:custGeom>
                  <a:avLst/>
                  <a:gdLst/>
                  <a:ahLst/>
                  <a:rect l="l" t="t" r="r" b="b"/>
                  <a:pathLst>
                    <a:path w="9111" h="9111">
                      <a:moveTo>
                        <a:pt x="18221" y="11778"/>
                      </a:moveTo>
                      <a:cubicBezTo>
                        <a:pt x="20000" y="13557"/>
                        <a:pt x="20000" y="16442"/>
                        <a:pt x="18221" y="18221"/>
                      </a:cubicBezTo>
                      <a:cubicBezTo>
                        <a:pt x="16442" y="20000"/>
                        <a:pt x="13557" y="20000"/>
                        <a:pt x="11778" y="18221"/>
                      </a:cubicBezTo>
                      <a:cubicBezTo>
                        <a:pt x="9999" y="16442"/>
                        <a:pt x="9999" y="13557"/>
                        <a:pt x="11778" y="11778"/>
                      </a:cubicBezTo>
                      <a:cubicBezTo>
                        <a:pt x="13557" y="9999"/>
                        <a:pt x="16442" y="9999"/>
                        <a:pt x="18221" y="1177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006259"/>
                    </a:gs>
                    <a:gs pos="100000">
                      <a:srgbClr val="d3fffd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43412c"/>
                    </a:solidFill>
                    <a:latin typeface="Hoefler Text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373920" y="2920680"/>
                  <a:ext cx="1787040" cy="6732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25455" dir="2700000" blurRad="0" rotWithShape="0">
                    <a:srgbClr val="ffffff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43412c"/>
                      </a:solidFill>
                      <a:latin typeface="Hoefler Text"/>
                    </a:rPr>
                    <a:t>Clinical</a:t>
                  </a:r>
                  <a:endParaRPr b="0" lang="en-US" sz="3800" spc="-1" strike="noStrike">
                    <a:solidFill>
                      <a:srgbClr val="43412c"/>
                    </a:solidFill>
                    <a:latin typeface="Hoefler Text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181480" y="1219320"/>
                <a:ext cx="2451240" cy="2044440"/>
                <a:chOff x="5181480" y="1219320"/>
                <a:chExt cx="2451240" cy="20444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181480" y="1219320"/>
                  <a:ext cx="2451240" cy="2044440"/>
                </a:xfrm>
                <a:custGeom>
                  <a:avLst/>
                  <a:gdLst/>
                  <a:ahLst/>
                  <a:rect l="l" t="t" r="r" b="b"/>
                  <a:pathLst>
                    <a:path w="9111" h="9111">
                      <a:moveTo>
                        <a:pt x="18221" y="11778"/>
                      </a:moveTo>
                      <a:cubicBezTo>
                        <a:pt x="20000" y="13557"/>
                        <a:pt x="20000" y="16442"/>
                        <a:pt x="18221" y="18221"/>
                      </a:cubicBezTo>
                      <a:cubicBezTo>
                        <a:pt x="16442" y="20000"/>
                        <a:pt x="13557" y="20000"/>
                        <a:pt x="11778" y="18221"/>
                      </a:cubicBezTo>
                      <a:cubicBezTo>
                        <a:pt x="9999" y="16442"/>
                        <a:pt x="9999" y="13557"/>
                        <a:pt x="11778" y="11778"/>
                      </a:cubicBezTo>
                      <a:cubicBezTo>
                        <a:pt x="13557" y="9999"/>
                        <a:pt x="16442" y="9999"/>
                        <a:pt x="18221" y="1177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006259"/>
                    </a:gs>
                    <a:gs pos="100000">
                      <a:srgbClr val="d3fffd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43412c"/>
                    </a:solidFill>
                    <a:latin typeface="Hoefler Text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283720" y="1942920"/>
                  <a:ext cx="2259360" cy="6732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25455" dir="2700000" blurRad="0" rotWithShape="0">
                    <a:srgbClr val="ffffff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43412c"/>
                      </a:solidFill>
                      <a:latin typeface="Hoefler Text"/>
                    </a:rPr>
                    <a:t>Research</a:t>
                  </a:r>
                  <a:endParaRPr b="0" lang="en-US" sz="3800" spc="-1" strike="noStrike">
                    <a:solidFill>
                      <a:srgbClr val="43412c"/>
                    </a:solidFill>
                    <a:latin typeface="Hoefler Text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7340760" y="2158920"/>
                <a:ext cx="2450880" cy="2044440"/>
                <a:chOff x="7340760" y="2158920"/>
                <a:chExt cx="2450880" cy="20444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7340760" y="2158920"/>
                  <a:ext cx="2450880" cy="2044440"/>
                </a:xfrm>
                <a:custGeom>
                  <a:avLst/>
                  <a:gdLst/>
                  <a:ahLst/>
                  <a:rect l="l" t="t" r="r" b="b"/>
                  <a:pathLst>
                    <a:path w="9111" h="9111">
                      <a:moveTo>
                        <a:pt x="18221" y="11778"/>
                      </a:moveTo>
                      <a:cubicBezTo>
                        <a:pt x="20000" y="13557"/>
                        <a:pt x="20000" y="16442"/>
                        <a:pt x="18221" y="18221"/>
                      </a:cubicBezTo>
                      <a:cubicBezTo>
                        <a:pt x="16442" y="20000"/>
                        <a:pt x="13557" y="20000"/>
                        <a:pt x="11778" y="18221"/>
                      </a:cubicBezTo>
                      <a:cubicBezTo>
                        <a:pt x="9999" y="16442"/>
                        <a:pt x="9999" y="13557"/>
                        <a:pt x="11778" y="11778"/>
                      </a:cubicBezTo>
                      <a:cubicBezTo>
                        <a:pt x="13557" y="9999"/>
                        <a:pt x="16442" y="9999"/>
                        <a:pt x="18221" y="11778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006259"/>
                    </a:gs>
                    <a:gs pos="100000">
                      <a:srgbClr val="d3fffd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43412c"/>
                    </a:solidFill>
                    <a:latin typeface="Hoefler Text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353720" y="2882520"/>
                  <a:ext cx="2437920" cy="6732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25455" dir="2700000" blurRad="0" rotWithShape="0">
                    <a:srgbClr val="ffffff">
                      <a:alpha val="7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43412c"/>
                      </a:solidFill>
                      <a:latin typeface="Hoefler Text"/>
                    </a:rPr>
                    <a:t>Education</a:t>
                  </a:r>
                  <a:endParaRPr b="0" lang="en-US" sz="3800" spc="-1" strike="noStrike">
                    <a:solidFill>
                      <a:srgbClr val="43412c"/>
                    </a:solidFill>
                    <a:latin typeface="Hoefler Text"/>
                  </a:endParaRPr>
                </a:p>
              </p:txBody>
            </p:sp>
          </p:grpSp>
        </p:grpSp>
      </p:grpSp>
      <p:sp>
        <p:nvSpPr>
          <p:cNvPr id="501" name=""/>
          <p:cNvSpPr/>
          <p:nvPr/>
        </p:nvSpPr>
        <p:spPr>
          <a:xfrm>
            <a:off x="3706560" y="368280"/>
            <a:ext cx="5414040" cy="642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3412c"/>
                </a:solidFill>
                <a:latin typeface="Hoefler Text"/>
              </a:rPr>
              <a:t>Our Development Model</a:t>
            </a:r>
            <a:endParaRPr b="0" lang="en-US" sz="3600" spc="-1" strike="noStrike">
              <a:solidFill>
                <a:srgbClr val="43412c"/>
              </a:solidFill>
              <a:latin typeface="Hoefler Text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8483760" y="7048440"/>
            <a:ext cx="2158920" cy="1193760"/>
            <a:chOff x="8483760" y="7048440"/>
            <a:chExt cx="2158920" cy="1193760"/>
          </a:xfrm>
        </p:grpSpPr>
        <p:sp>
          <p:nvSpPr>
            <p:cNvPr id="503" name=""/>
            <p:cNvSpPr/>
            <p:nvPr/>
          </p:nvSpPr>
          <p:spPr>
            <a:xfrm>
              <a:off x="8585280" y="7048440"/>
              <a:ext cx="1955880" cy="1193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gradFill rotWithShape="0">
              <a:gsLst>
                <a:gs pos="0">
                  <a:srgbClr val="1801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83760" y="7505640"/>
              <a:ext cx="21589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3412c"/>
                  </a:solidFill>
                  <a:latin typeface="Hoefler Text"/>
                </a:rPr>
                <a:t>INFORMATICS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423040" y="7048440"/>
            <a:ext cx="2158920" cy="1193760"/>
            <a:chOff x="5423040" y="7048440"/>
            <a:chExt cx="2158920" cy="1193760"/>
          </a:xfrm>
        </p:grpSpPr>
        <p:sp>
          <p:nvSpPr>
            <p:cNvPr id="506" name=""/>
            <p:cNvSpPr/>
            <p:nvPr/>
          </p:nvSpPr>
          <p:spPr>
            <a:xfrm>
              <a:off x="5524560" y="7048440"/>
              <a:ext cx="1955880" cy="1193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gradFill rotWithShape="0">
              <a:gsLst>
                <a:gs pos="0">
                  <a:srgbClr val="1801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23040" y="7365960"/>
              <a:ext cx="2158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3412c"/>
                  </a:solidFill>
                  <a:latin typeface="Hoefler Text"/>
                </a:rPr>
                <a:t>KNOWLEDGE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3412c"/>
                  </a:solidFill>
                  <a:latin typeface="Hoefler Text"/>
                </a:rPr>
                <a:t>MANAGEMENT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184480" y="7048440"/>
            <a:ext cx="2158920" cy="1193760"/>
            <a:chOff x="2184480" y="7048440"/>
            <a:chExt cx="2158920" cy="1193760"/>
          </a:xfrm>
        </p:grpSpPr>
        <p:sp>
          <p:nvSpPr>
            <p:cNvPr id="509" name=""/>
            <p:cNvSpPr/>
            <p:nvPr/>
          </p:nvSpPr>
          <p:spPr>
            <a:xfrm>
              <a:off x="2286000" y="7048440"/>
              <a:ext cx="1955160" cy="1193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10000" y="10000"/>
                  </a:moveTo>
                  <a:lnTo>
                    <a:pt x="20000" y="10000"/>
                  </a:lnTo>
                  <a:lnTo>
                    <a:pt x="20000" y="20000"/>
                  </a:lnTo>
                  <a:lnTo>
                    <a:pt x="10000" y="20000"/>
                  </a:lnTo>
                  <a:close/>
                  <a:moveTo>
                    <a:pt x="10000" y="10000"/>
                  </a:moveTo>
                </a:path>
              </a:pathLst>
            </a:custGeom>
            <a:gradFill rotWithShape="0">
              <a:gsLst>
                <a:gs pos="0">
                  <a:srgbClr val="1801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184480" y="7365960"/>
              <a:ext cx="2158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25455" dir="2700000" blurRad="0" rotWithShape="0">
                <a:srgbClr val="ffffff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3412c"/>
                  </a:solidFill>
                  <a:latin typeface="Hoefler Text"/>
                </a:rPr>
                <a:t>INFORMATION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3412c"/>
                  </a:solidFill>
                  <a:latin typeface="Hoefler Text"/>
                </a:rPr>
                <a:t>TECHNOLOGY</a:t>
              </a:r>
              <a:endParaRPr b="0" lang="en-US" sz="1800" spc="-1" strike="noStrike">
                <a:solidFill>
                  <a:srgbClr val="43412c"/>
                </a:solidFill>
                <a:latin typeface="Hoefler Text"/>
              </a:endParaRPr>
            </a:p>
          </p:txBody>
        </p:sp>
      </p:grp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OPA</cp:keywords>
  <dc:language>en-US</dc:language>
  <cp:lastModifiedBy>Kevin Boyd</cp:lastModifiedBy>
  <dcterms:modified xsi:type="dcterms:W3CDTF">2003-02-19T22:01:51Z</dcterms:modified>
  <cp:revision>4</cp:revision>
  <dc:subject/>
  <dc:title>PowerPoint Presentation  -  Information Resources and Technology</dc:title>
</cp:coreProperties>
</file>